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BFFB-DA31-473F-9E6E-E578B378C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36BB-73ED-4A33-8D17-9B4BD3FE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FE18-3742-41E3-8350-F5F4A256D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995D-059F-46AC-990A-BD148DC06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5520-2F35-4741-8A60-C80D5FC7A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5033-0497-4A58-B3C3-141348A2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E79D-F49F-47A2-8494-0489B0F0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BF7F1-0A11-4DC0-B02F-D36C4BC2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7FFA-20DA-4652-B4EB-6C670B4B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9296-A0C2-41D2-A7CF-5E8F14F1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BE44-818D-4BB8-B219-53FA5B1A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0443-7B86-43B0-82A7-ACDFE9B1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7A2C5-3E4A-47AB-9309-422E4394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66C4-73A7-4A10-BDA0-FC1BC6C8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8CFA-E7BC-4B17-8F1F-D9AD2076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D3C59-B68B-4C4D-B2FD-674FC614E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2FCE-E48B-4A55-91DF-FDE548A4D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4AB1-7CC5-4732-B0E7-E30C7961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EC51-0EBF-44B1-BF92-EE7AE583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2EED-49CD-4996-A440-18AD409F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DE97-1E38-4E45-A8C6-EF8D2900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D74A-3383-42A5-8875-C175BF38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764D-58FE-4D55-9B51-3D38DC2E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A95A-DB84-4D82-BC51-2F63919A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E8C1-8170-40FE-B39C-CE518FF19EE0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B401-A484-4B63-971E-5C96F250149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BarackObama2005portrait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-elect" TargetMode="External"/><Relationship Id="rId2" Type="http://schemas.openxmlformats.org/officeDocument/2006/relationships/hyperlink" Target="http://en.wikipedia.org/wiki/United_States" TargetMode="External"/><Relationship Id="rId3" Type="http://schemas.openxmlformats.org/officeDocument/2006/relationships/hyperlink" Target="http://en.wikipedia.org/wiki/List_of_African-American_firsts" TargetMode="External"/><Relationship Id="rId4" Type="http://schemas.openxmlformats.org/officeDocument/2006/relationships/hyperlink" Target="http://en.wikipedia.org/wiki/President_of_the_United_States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eniority_in_the_United_States_Senate" TargetMode="External"/><Relationship Id="rId2" Type="http://schemas.openxmlformats.org/officeDocument/2006/relationships/hyperlink" Target="http://en.wikipedia.org/wiki/United_States_Senate" TargetMode="External"/><Relationship Id="rId3" Type="http://schemas.openxmlformats.org/officeDocument/2006/relationships/hyperlink" Target="http://en.wikipedia.org/wiki/Illinois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olumbia_College_of_Columbia_University" TargetMode="External"/><Relationship Id="rId2" Type="http://schemas.openxmlformats.org/officeDocument/2006/relationships/hyperlink" Target="http://en.wikipedia.org/wiki/Harvard_Law_School" TargetMode="External"/><Relationship Id="rId3" Type="http://schemas.openxmlformats.org/officeDocument/2006/relationships/hyperlink" Target="http://en.wikipedia.org/wiki/Harvard_Law_Review" TargetMode="External"/><Relationship Id="rId4" Type="http://schemas.openxmlformats.org/officeDocument/2006/relationships/hyperlink" Target="http://en.wikipedia.org/wiki/Community_organizing" TargetMode="External"/><Relationship Id="rId5" Type="http://schemas.openxmlformats.org/officeDocument/2006/relationships/hyperlink" Target="http://en.wikipedia.org/wiki/Civil_and_political_rights" TargetMode="External"/><Relationship Id="rId6" Type="http://schemas.openxmlformats.org/officeDocument/2006/relationships/hyperlink" Target="http://en.wikipedia.org/wiki/Illinois_Senate" TargetMode="External"/><Relationship Id="rId7" Type="http://schemas.openxmlformats.org/officeDocument/2006/relationships/hyperlink" Target="http://en.wikipedia.org/wiki/Constitutional_law" TargetMode="External"/><Relationship Id="rId8" Type="http://schemas.openxmlformats.org/officeDocument/2006/relationships/hyperlink" Target="http://en.wikipedia.org/wiki/University_of_Chicago_Law_School" TargetMode="External"/><Relationship Id="rId9" Type="http://schemas.openxmlformats.org/officeDocument/2006/relationships/hyperlink" Target="http://en.wikipedia.org/wiki/United_States_House_of_Representatives" TargetMode="External"/><Relationship Id="rId10" Type="http://schemas.openxmlformats.org/officeDocument/2006/relationships/hyperlink" Target="http://en.wikipedia.org/wiki/United_States_Senate" TargetMode="External"/><Relationship Id="rId11" Type="http://schemas.openxmlformats.org/officeDocument/2006/relationships/hyperlink" Target="http://en.wikipedia.org/wiki/Keynote" TargetMode="External"/><Relationship Id="rId12" Type="http://schemas.openxmlformats.org/officeDocument/2006/relationships/hyperlink" Target="http://en.wikipedia.org/wiki/2004_Democratic_National_Convention" TargetMode="External"/><Relationship Id="rId13" Type="http://schemas.openxmlformats.org/officeDocument/2006/relationships/hyperlink" Target="http://en.wikipedia.org/wiki/109th_United_States_Congress" TargetMode="External"/><Relationship Id="rId14" Type="http://schemas.openxmlformats.org/officeDocument/2006/relationships/hyperlink" Target="http://en.wikipedia.org/wiki/Conventional_weapon" TargetMode="External"/><Relationship Id="rId15" Type="http://schemas.openxmlformats.org/officeDocument/2006/relationships/hyperlink" Target="http://en.wikipedia.org/wiki/110th_United_States_Congress" TargetMode="External"/><Relationship Id="rId16" Type="http://schemas.openxmlformats.org/officeDocument/2006/relationships/hyperlink" Target="http://en.wikipedia.org/wiki/Lobbying_in_the_United_States" TargetMode="External"/><Relationship Id="rId17" Type="http://schemas.openxmlformats.org/officeDocument/2006/relationships/hyperlink" Target="http://en.wikipedia.org/wiki/Electoral_fraud" TargetMode="External"/><Relationship Id="rId1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Barack Obam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Black"/>
              </a:rPr>
              <a:t>BARRACK OBAM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BY: Jordan LaDa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"/>
          <p:cNvSpPr/>
          <p:nvPr/>
        </p:nvSpPr>
        <p:spPr>
          <a:xfrm>
            <a:off x="1676520" y="10666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esident elect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irst black presid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President-elect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 of the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United States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 and the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first African American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 to be elected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4"/>
              </a:rPr>
              <a:t>President of the United States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bama was the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junior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United States Senator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from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Illinois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from 2005 until he resigned on November 16, 2008, following his election to the Presidency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rrack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He is a graduate of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Columbia University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 and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Harvard Law School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, where he was president of the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Harvard Law Review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. Obama worked as a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Arial Black"/>
                <a:hlinkClick r:id="rId4"/>
              </a:rPr>
              <a:t>community organizer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 and practiced as a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Arial Black"/>
                <a:hlinkClick r:id="rId5"/>
              </a:rPr>
              <a:t>civil rights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 attorney before serving three terms in the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Arial Black"/>
                <a:hlinkClick r:id="rId6"/>
              </a:rPr>
              <a:t>Illinois Senate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 from 1997 to 2004. He also taught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Arial Black"/>
                <a:hlinkClick r:id="rId7"/>
              </a:rPr>
              <a:t>constitutional law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 at the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Arial Black"/>
                <a:hlinkClick r:id="rId8"/>
              </a:rPr>
              <a:t>University of Chicago Law School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 from 1992 to 2004. Following an unsuccessful bid for a seat in the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Arial Black"/>
                <a:hlinkClick r:id="rId9"/>
              </a:rPr>
              <a:t>U.S. House of Representatives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 in 2000, he announced his campaign for the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Arial Black"/>
                <a:hlinkClick r:id="rId10"/>
              </a:rPr>
              <a:t>U.S. Senate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 in January 2003, won a primary victory in March 2004, and was elected to the Senate in November 2004. Obama delivered the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Arial Black"/>
                <a:hlinkClick r:id="rId11"/>
              </a:rPr>
              <a:t>keynote address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 at the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Arial Black"/>
                <a:hlinkClick r:id="rId12"/>
              </a:rPr>
              <a:t>Democratic National Convention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 in July 2004.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As a member of the Democratic minority in the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Arial Black"/>
                <a:hlinkClick r:id="rId13"/>
              </a:rPr>
              <a:t>109th Congress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, he helped create legislation to control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Arial Black"/>
                <a:hlinkClick r:id="rId14"/>
              </a:rPr>
              <a:t>conventional weapons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 and to promote greater public accountability in the use of federal funds. He also made official trips to Eastern Europe, the Middle East, and Africa. During the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Arial Black"/>
                <a:hlinkClick r:id="rId15"/>
              </a:rPr>
              <a:t>110th Congress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, he helped create legislation regarding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Arial Black"/>
                <a:hlinkClick r:id="rId16"/>
              </a:rPr>
              <a:t>lobbying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 and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Arial Black"/>
                <a:hlinkClick r:id="rId17"/>
              </a:rPr>
              <a:t>electoral fraud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, climate change, nuclear terrorism, and care for returned U.S. military personnel.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4114800" y="297180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The end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6:23:44Z</dcterms:created>
  <dc:creator>766935</dc:creator>
  <dc:description/>
  <dc:language>en-US</dc:language>
  <cp:lastModifiedBy>766935</cp:lastModifiedBy>
  <dcterms:modified xsi:type="dcterms:W3CDTF">2008-11-20T16:59:15Z</dcterms:modified>
  <cp:revision>2</cp:revision>
  <dc:subject/>
  <dc:title>BARRACK OBAMA</dc:title>
</cp:coreProperties>
</file>